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C5A4-1C22-428B-A8E1-0FEB67C3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9E66-6F62-49DC-98B1-215C1326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8E81-6403-46B8-B2A7-E635975E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64F-C20B-4591-8761-46014763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01C7-A91E-4132-A111-8168AC46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15B-336D-4CC9-B7DD-8ECDD355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6A1C-703F-422C-88E3-F22BA177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E45-E40C-4B0D-9693-D11E54EA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08B9-8EE5-4B59-ADAD-D4FA0184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6F0-B459-4AE7-A7CA-C0080D35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7B41-28FD-4EA0-A67D-2C3F1027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E8CA-BD42-43FA-9E77-A5221F48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16FF-048B-47A0-85B3-4E37640F149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IB – 06/11/2017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b0f0"/>
                </a:solidFill>
                <a:latin typeface="Arial"/>
              </a:rPr>
              <a:t>PPI – Programação Pactuada Integrada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manejamentos de Teto Físicos e Financeiros da PPI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4920" y="0"/>
          <a:ext cx="9072720" cy="6477120"/>
        </p:xfrm>
        <a:graphic>
          <a:graphicData uri="http://schemas.openxmlformats.org/drawingml/2006/table">
            <a:tbl>
              <a:tblPr/>
              <a:tblGrid>
                <a:gridCol w="1152360"/>
                <a:gridCol w="2232360"/>
                <a:gridCol w="863280"/>
                <a:gridCol w="936720"/>
                <a:gridCol w="1368360"/>
                <a:gridCol w="1440000"/>
                <a:gridCol w="1079640"/>
              </a:tblGrid>
              <a:tr h="85284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- LAGOA DA CONFUSÃO 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47920">
                <a:tc rowSpan="5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107XXXX - AVALIAÇÕES FONOAUDIOLÓG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,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48 - CONSULTA DE PROFISSIONAIS DE NIVEL SUPERIOR NA ATENÇÃO ESPECIALIZADA (EXCETO MÉDICO) - 2232 - CIRURGIÃO DENT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48 - CONSULTA DE PROFISSIONAIS DE NIVEL SUPERIOR NA ATENÇÃO ESPECIALIZADA (EXCETO MÉDICO) - 2234 - FARMACÊU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,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48 - CONSULTA DE PROFISSIONAIS DE NIVEL SUPERIOR NA ATENÇÃO ESPECIALIZADA (EXCETO MÉDICO) - 2235 - ENFERMEI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87,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48 - CONSULTA DE PROFISSIONAIS DE NIVEL SUPERIOR NA ATENÇÃO ESPECIALIZADA (EXCETO MÉDICO) - 2236 - FISOTERAPEUTA/TERAPEUTA OCUPACIONAL/ORTOPT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3,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4920" y="0"/>
          <a:ext cx="9072720" cy="6195960"/>
        </p:xfrm>
        <a:graphic>
          <a:graphicData uri="http://schemas.openxmlformats.org/drawingml/2006/table">
            <a:tbl>
              <a:tblPr/>
              <a:tblGrid>
                <a:gridCol w="1079640"/>
                <a:gridCol w="2449440"/>
                <a:gridCol w="790560"/>
                <a:gridCol w="865080"/>
                <a:gridCol w="1368360"/>
                <a:gridCol w="1440000"/>
                <a:gridCol w="1079640"/>
              </a:tblGrid>
              <a:tr h="76500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- LAGOA DA CONFUSÃO 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096920">
                <a:tc rowSpan="5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48 - CONSULTA DE PROFISSIONAIS DE NIVEL SUPERIOR NA ATENÇÃO ESPECIALIZADA (EXCETO MÉDICO) - 2238 - FONOAUDIÓLO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7,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48 - CONSULTA DE PROFISSIONAIS DE NIVEL SUPERIOR NA ATENÇÃO ESPECIALIZADA (EXCETO MÉDICO) - 2515 - PSICÓLOGO/PSICANAL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11,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48 - CONSULTA DE PROFISSIONAIS DE NIVEL SUPERIOR NA ATENÇÃO ESPECIALIZADA (EXCETO MÉDICO) - 2516 - ASSISTENTE 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0,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40036 - TERAPIA EM GRUPO - 2515 - PSICÓLOGO/PSICANAL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40036 - TERAPIA EM GRUPO - 2516 - ASSISTENTE 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,5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-36360" y="0"/>
          <a:ext cx="9144000" cy="6716880"/>
        </p:xfrm>
        <a:graphic>
          <a:graphicData uri="http://schemas.openxmlformats.org/drawingml/2006/table">
            <a:tbl>
              <a:tblPr/>
              <a:tblGrid>
                <a:gridCol w="1079280"/>
                <a:gridCol w="2737080"/>
                <a:gridCol w="792000"/>
                <a:gridCol w="863640"/>
                <a:gridCol w="1440000"/>
                <a:gridCol w="1296720"/>
                <a:gridCol w="935280"/>
              </a:tblGrid>
              <a:tr h="33336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- LAGOA DA CONFUSÃO 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8160">
                <a:tc rowSpan="9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40044 - TERAPIA INDIVIDUAL - 2515 - PSICÓLOGO/PSICANAL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40044 - TERAPIA INDIVIDUAL - 2516 - ASSISTENTE 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50000 - Atenção domicili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67,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60029 - ATENDIMENTO DE URGENCIA C/ OBSERVACAO ATE 24 HORAS EM ATENCAO ESPECIALIZADA - 2231 - MÉD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56,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60061 - ATENDIMENTO DE URGENCIA EM ATENCAO ESPECIALIZADA - 2231 - MÉD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60061 - ATENDIMENTO DE URGENCIA EM ATENCAO ESPECIALIZADA - 2232 - CIRURGIÃO DENT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6,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100012 - ADMINISTRACAO DE MEDICAMENTOS  NA ATENCAO ESPECIALIZADA POR (PACIENT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2050000 - Assistência fisioterapêutica nas disfunções músculo esqueléticas (todas as orige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80,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01XXXX - Pequenas Cirurgias (MA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7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191,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valores dos tetos físicos/financeiros correspondem ao  valor que estava na Gestão Municipal (PALMAS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-36360" y="260280"/>
          <a:ext cx="9145440" cy="4927680"/>
        </p:xfrm>
        <a:graphic>
          <a:graphicData uri="http://schemas.openxmlformats.org/drawingml/2006/table">
            <a:tbl>
              <a:tblPr/>
              <a:tblGrid>
                <a:gridCol w="1120680"/>
                <a:gridCol w="2530440"/>
                <a:gridCol w="650880"/>
                <a:gridCol w="939600"/>
                <a:gridCol w="1382760"/>
                <a:gridCol w="1436760"/>
                <a:gridCol w="1084320"/>
              </a:tblGrid>
              <a:tr h="42660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- LAGOA DA CONFUSÃO 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1412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1060029 - ATENDIMENTO DE URGENCIA C/ OBSERVACAO ATE 24 HORAS EM ATENCAO ESPECIALIZADA - 2231 - MÉD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90,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ISO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1060061 - ATENDIMENTO DE URGENCIA EM ATENCAO ESPECIALIZADA - 2231 - MÉD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ISO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0101XXXX - Pequenas Cirurgias (MA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5,6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ISO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2050000 - Assistência fisioterapêutica nas disfunções músculo esqueléticas (todas as orige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3,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ISO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A CONFUSÃO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59,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Os valores dos tetos físicos/financeiros correspondem ao  valor que estava na Gestão Estadual/Municipal (PARAISO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ítulo 1"/>
          <p:cNvSpPr/>
          <p:nvPr/>
        </p:nvSpPr>
        <p:spPr>
          <a:xfrm>
            <a:off x="685800" y="1752480"/>
            <a:ext cx="77724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4920" y="0"/>
          <a:ext cx="9072720" cy="5977080"/>
        </p:xfrm>
        <a:graphic>
          <a:graphicData uri="http://schemas.openxmlformats.org/drawingml/2006/table">
            <a:tbl>
              <a:tblPr/>
              <a:tblGrid>
                <a:gridCol w="1224000"/>
                <a:gridCol w="2089080"/>
                <a:gridCol w="647640"/>
                <a:gridCol w="936720"/>
                <a:gridCol w="1440000"/>
                <a:gridCol w="1511280"/>
                <a:gridCol w="1224000"/>
              </a:tblGrid>
              <a:tr h="21348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LUZINÓPOLIS 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000">
                <a:tc rowSpan="7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ZINÓPOL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4010000 - Exames radiológicos da cabeça e pescoç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402XXXX - RADIOLOGIA COLUNA VERTEB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9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403XXXX - RADIOLOGIA TORAX MEDIAST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48,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4040000 - Exames radiológicos da cintura escapular e dos membros superi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8,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405XXXX - RADIOLÓGICO ABDOMEN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,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4060000 - Exames radiológicos da cintura pélvica e dos membros inferi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5020046 – ULTRA -SONOGRAFIA DE ABDOMEN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4920" y="0"/>
          <a:ext cx="9074160" cy="5133960"/>
        </p:xfrm>
        <a:graphic>
          <a:graphicData uri="http://schemas.openxmlformats.org/drawingml/2006/table">
            <a:tbl>
              <a:tblPr/>
              <a:tblGrid>
                <a:gridCol w="1152360"/>
                <a:gridCol w="2448000"/>
                <a:gridCol w="649440"/>
                <a:gridCol w="934920"/>
                <a:gridCol w="1368360"/>
                <a:gridCol w="1441440"/>
                <a:gridCol w="1079640"/>
              </a:tblGrid>
              <a:tr h="21348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LUZINÓPOLIS 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 rowSpan="6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ZINÓPOL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5020143 - ULTRA-SONOGRAFIA OBSTET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9,6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124 - Médico pedia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225 - Médico cirurgião g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250 - Médico ginecologista e obste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270 - Médico ortopedista e traumatolog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01XXXX - Pequenas Cirurgias (MA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6,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4920" y="5157720"/>
          <a:ext cx="9072720" cy="576360"/>
        </p:xfrm>
        <a:graphic>
          <a:graphicData uri="http://schemas.openxmlformats.org/drawingml/2006/table">
            <a:tbl>
              <a:tblPr/>
              <a:tblGrid>
                <a:gridCol w="1152360"/>
                <a:gridCol w="2448000"/>
                <a:gridCol w="647640"/>
                <a:gridCol w="936720"/>
                <a:gridCol w="3888000"/>
              </a:tblGrid>
              <a:tr h="576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08,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Os valores dos tetos físicos/financeiros correspondem ao  valor que estava na Gestão Estadual (ARAGUAÍNA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08000" y="0"/>
          <a:ext cx="8928000" cy="3506760"/>
        </p:xfrm>
        <a:graphic>
          <a:graphicData uri="http://schemas.openxmlformats.org/drawingml/2006/table">
            <a:tbl>
              <a:tblPr/>
              <a:tblGrid>
                <a:gridCol w="1295280"/>
                <a:gridCol w="1873440"/>
                <a:gridCol w="647640"/>
                <a:gridCol w="934920"/>
                <a:gridCol w="1728720"/>
                <a:gridCol w="1440000"/>
                <a:gridCol w="1008000"/>
              </a:tblGrid>
              <a:tr h="106668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LUZINÓPOLIS 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0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ZINÓPOL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4060000 - Exames radiológicos da cintura pélvica e dos membros inferi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INÓPOLIS         ( 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7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valores dos tetos físicos/financeiros correspondem ao  valor que estava na Gestão Estadual (Augustinópolis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8000" y="-162000"/>
          <a:ext cx="9001080" cy="5970600"/>
        </p:xfrm>
        <a:graphic>
          <a:graphicData uri="http://schemas.openxmlformats.org/drawingml/2006/table">
            <a:tbl>
              <a:tblPr/>
              <a:tblGrid>
                <a:gridCol w="1128600"/>
                <a:gridCol w="2183040"/>
                <a:gridCol w="504720"/>
                <a:gridCol w="792000"/>
                <a:gridCol w="1656000"/>
                <a:gridCol w="1428480"/>
                <a:gridCol w="1308240"/>
              </a:tblGrid>
              <a:tr h="106704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NAZARÉ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48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AR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1010028 - ATIVIDADE EDUCATIVA / ORIENTAÇÃO EM GRUPO NA ATENÇÃO ESPECI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,6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/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1010048 - CONSULTA DE PROFISSIONAIS DE NIVEL SUPERIOR NA ATENÇÃO ESPECIALIZADA (EXCETO MÉDICO) - 2235 - ENFERMEI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91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/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1010048 - CONSULTA DE PROFISSIONAIS DE NIVEL SUPERIOR NA ATENÇÃO ESPECIALIZADA (EXCETO MÉDICO) - 2237 - NUTRICION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2,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/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1010048 - CONSULTA DE PROFISSIONAIS DE NIVEL SUPERIOR NA ATENÇÃO ESPECIALIZADA (EXCETO MÉDICO) - 2238 - FONOAUDIÓLO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/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08000" y="189000"/>
          <a:ext cx="9001080" cy="5751360"/>
        </p:xfrm>
        <a:graphic>
          <a:graphicData uri="http://schemas.openxmlformats.org/drawingml/2006/table">
            <a:tbl>
              <a:tblPr/>
              <a:tblGrid>
                <a:gridCol w="1128600"/>
                <a:gridCol w="2259000"/>
                <a:gridCol w="776520"/>
                <a:gridCol w="776160"/>
                <a:gridCol w="1623960"/>
                <a:gridCol w="1411200"/>
                <a:gridCol w="1025640"/>
              </a:tblGrid>
              <a:tr h="106668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NAZARÉ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3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AR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48 - CONSULTA DE PROFISSIONAIS DE NIVEL SUPERIOR NA ATENÇÃO ESPECIALIZADA (EXCETO MÉDICO) - 2515 - PSICÓLOGO/PSICANAL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8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      (G. Estadual/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48 - CONSULTA DE PROFISSIONAIS DE NIVEL SUPERIOR NA ATENÇÃO ESPECIALIZADA (EXCETO MÉDICO) - 2516 - ASSISTENTE 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/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4010000 - Exames radiológicos da cabeça e pescoç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55,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402XXXX - RADIOLOGIA COLUNA VERTEB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15,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8000" y="-162000"/>
          <a:ext cx="8856720" cy="6070680"/>
        </p:xfrm>
        <a:graphic>
          <a:graphicData uri="http://schemas.openxmlformats.org/drawingml/2006/table">
            <a:tbl>
              <a:tblPr/>
              <a:tblGrid>
                <a:gridCol w="1128600"/>
                <a:gridCol w="2040120"/>
                <a:gridCol w="863640"/>
                <a:gridCol w="863280"/>
                <a:gridCol w="1224000"/>
                <a:gridCol w="1643040"/>
                <a:gridCol w="1094040"/>
              </a:tblGrid>
              <a:tr h="106704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NAZARÉ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4480">
                <a:tc rowSpan="4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AR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403XXXX - RADIOLOGIA TORAX MEDIAST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,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5020000 - Ultra-sonografias dos demais siste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23,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5020046 - ULTRA-SONOGRAFIA DE ABDOMEN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97,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5020097 - ULTRA-SONOGRAFIA MAMARIA BILAT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8,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4920" y="0"/>
          <a:ext cx="9072720" cy="5484960"/>
        </p:xfrm>
        <a:graphic>
          <a:graphicData uri="http://schemas.openxmlformats.org/drawingml/2006/table">
            <a:tbl>
              <a:tblPr/>
              <a:tblGrid>
                <a:gridCol w="1079640"/>
                <a:gridCol w="2305080"/>
                <a:gridCol w="792000"/>
                <a:gridCol w="1079640"/>
                <a:gridCol w="1296720"/>
                <a:gridCol w="1440000"/>
                <a:gridCol w="1079640"/>
              </a:tblGrid>
              <a:tr h="106668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B ORDINÁRIA 6  DE DEZEMBRO DE  2017 - PARECER TÉCNICO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ÇÕES DE REMANEJAMENTO DE TETO FÍSICO E FINANCEIR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- AGUIARNÓPOLIS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- Retir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o Retirando/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eiro Retirando/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iarnópol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5020000 - Ultra-sonografias dos demais siste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42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5020143 - ULTRA-SONOGRAFIA OBSTET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61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225 - Médico cirurgião g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270 - Médico ortopedista e traumatolog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4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04,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valores dos tetos físicos/financeiros correspondem ao  valor que estava na GE (Araguaína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08000" y="345960"/>
          <a:ext cx="8856720" cy="5315040"/>
        </p:xfrm>
        <a:graphic>
          <a:graphicData uri="http://schemas.openxmlformats.org/drawingml/2006/table">
            <a:tbl>
              <a:tblPr/>
              <a:tblGrid>
                <a:gridCol w="1128600"/>
                <a:gridCol w="1905120"/>
                <a:gridCol w="917640"/>
                <a:gridCol w="776160"/>
                <a:gridCol w="1341360"/>
                <a:gridCol w="1563840"/>
                <a:gridCol w="1224000"/>
              </a:tblGrid>
              <a:tr h="106704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8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NAZARÉ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8800">
                <a:tc rowSpan="4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AR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5020143 - ULTRA-SONOGRAFIA OBSTET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39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1020036 - ELETROCARDI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59,6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133 - Médico psiquia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151 - Médico anestesiolog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8000" y="-122400"/>
          <a:ext cx="8856720" cy="6072480"/>
        </p:xfrm>
        <a:graphic>
          <a:graphicData uri="http://schemas.openxmlformats.org/drawingml/2006/table">
            <a:tbl>
              <a:tblPr/>
              <a:tblGrid>
                <a:gridCol w="1128600"/>
                <a:gridCol w="2327400"/>
                <a:gridCol w="647640"/>
                <a:gridCol w="936720"/>
                <a:gridCol w="1224000"/>
                <a:gridCol w="1439640"/>
                <a:gridCol w="1152720"/>
              </a:tblGrid>
              <a:tr h="106704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NAZARÉ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AR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225 - Médico cirurgião g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250 - Médico ginecologista e obste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270 - Médico ortopedista e traumatolog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2050000 - Assistência fisioterapêutica nas disfunções musculo esqueleticas (todas as orige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83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08000" y="260280"/>
          <a:ext cx="8785080" cy="5113440"/>
        </p:xfrm>
        <a:graphic>
          <a:graphicData uri="http://schemas.openxmlformats.org/drawingml/2006/table">
            <a:tbl>
              <a:tblPr/>
              <a:tblGrid>
                <a:gridCol w="1119240"/>
                <a:gridCol w="2241360"/>
                <a:gridCol w="770040"/>
                <a:gridCol w="770040"/>
                <a:gridCol w="1260360"/>
                <a:gridCol w="1471680"/>
                <a:gridCol w="1152360"/>
              </a:tblGrid>
              <a:tr h="63972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32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NAZARÉ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448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AR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15040000 - Procedimentos cirúrgicos ger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,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17010000 - Anestes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124 - Médico pedia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1402XXXX - Cirurgia Oral (MA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,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4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414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Os valores dos tetos físicos/financeiros correspondem ao  valor que estava na Gestão Estadual (ARAGUAÍNA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8000" y="0"/>
          <a:ext cx="8928000" cy="4802040"/>
        </p:xfrm>
        <a:graphic>
          <a:graphicData uri="http://schemas.openxmlformats.org/drawingml/2006/table">
            <a:tbl>
              <a:tblPr/>
              <a:tblGrid>
                <a:gridCol w="1295280"/>
                <a:gridCol w="1873440"/>
                <a:gridCol w="647640"/>
                <a:gridCol w="1224000"/>
                <a:gridCol w="1439640"/>
                <a:gridCol w="1440000"/>
                <a:gridCol w="1008000"/>
              </a:tblGrid>
              <a:tr h="106668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NAZARÉ - Modalidade: Hospita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708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AR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ATRIA CLÍNICA/CLÍNICA G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23,1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TETRICOS/OSBTETRICIA CIRÚRG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34,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TRETRICOS/OSBTRECIA CLÍ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59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OS/CLINICA G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14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530,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s valores dos tetos fisicos/financeiros correspondem ao  valor que estava na Gestão Estadual /Municipal(ARAGUAÍNA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-4680"/>
          <a:ext cx="9144000" cy="6651720"/>
        </p:xfrm>
        <a:graphic>
          <a:graphicData uri="http://schemas.openxmlformats.org/drawingml/2006/table">
            <a:tbl>
              <a:tblPr/>
              <a:tblGrid>
                <a:gridCol w="826920"/>
                <a:gridCol w="1513080"/>
                <a:gridCol w="792000"/>
                <a:gridCol w="648000"/>
                <a:gridCol w="720720"/>
                <a:gridCol w="1366560"/>
                <a:gridCol w="576360"/>
                <a:gridCol w="720720"/>
                <a:gridCol w="1008000"/>
                <a:gridCol w="971640"/>
              </a:tblGrid>
              <a:tr h="277560"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- PALMEIRÓPOLIS  - Modalidade: Hospita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s - Retirar (Leito/Especialida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(Retirand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o Retirando/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eiro Retirando/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ento Inclus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o Inclusão/a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. Inclusão/a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row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eirópol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ATRIA CLINICA/CLÍNIC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pi (G.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16,5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/CLÍNIC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60,4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eirópolis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TETRICOS/OBSTETRICIA CIRÚRG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pi (G.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10,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/CLÍNIC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87,8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eirópolis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ÚRGICOS/GASTROENTEROLOG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pi (G.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15,0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/CLÍNIC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76,3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eirópolis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ÚRGICOS/CIRURGI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pi (G.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16,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/CLÍNIC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80,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eirópolis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OS/PNEUMOLOG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pi (G.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117,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/CLÍNIC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107,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eirópolis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ATRIA CIRURGICA/CIRURGI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pi (G.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15,0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/CLÍNIC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93,9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eirópolis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OS/CARDIOLOG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pi (G.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86,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/CLÍNIC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450,5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eirópolis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TETRICOS/OBSTETRÍCIA CLIN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pi (G.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37,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/CLÍNIC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70,3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eirópolis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OS/CLÍNIC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pi (G.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175,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/CLÍNICA G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175,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eirópolis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.591,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.402,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-36360" y="260280"/>
          <a:ext cx="9216720" cy="6026400"/>
        </p:xfrm>
        <a:graphic>
          <a:graphicData uri="http://schemas.openxmlformats.org/drawingml/2006/table">
            <a:tbl>
              <a:tblPr/>
              <a:tblGrid>
                <a:gridCol w="1079280"/>
                <a:gridCol w="1081080"/>
                <a:gridCol w="1008000"/>
                <a:gridCol w="792360"/>
                <a:gridCol w="792000"/>
                <a:gridCol w="1368360"/>
                <a:gridCol w="648000"/>
                <a:gridCol w="647640"/>
                <a:gridCol w="934920"/>
                <a:gridCol w="865080"/>
              </a:tblGrid>
              <a:tr h="426600">
                <a:tc gridSpan="10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- PARAISO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- Retir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o Retirando/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eiro Retirando/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ento Inclus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o Inclusão/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 Inclusão/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520">
                <a:tc rowSpan="6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í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3XXXX - IMUNOLOGIA AVANÇA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,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8,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3XXXX - IMUNOLOGIA DIFERENCIA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3,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3,5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3XXXX - PERFIL TORC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86,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95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20065 - EXAME ANATOMOPATOLOGICO DE MAMA - BIOP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6,1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405XXXX - RADIOLÓGICO ABDOMEN AVANÇ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,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1,2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9040000 - Aparelho respirató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4,5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6,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4920" y="0"/>
          <a:ext cx="9109080" cy="6297480"/>
        </p:xfrm>
        <a:graphic>
          <a:graphicData uri="http://schemas.openxmlformats.org/drawingml/2006/table">
            <a:tbl>
              <a:tblPr/>
              <a:tblGrid>
                <a:gridCol w="720720"/>
                <a:gridCol w="1440000"/>
                <a:gridCol w="936360"/>
                <a:gridCol w="720720"/>
                <a:gridCol w="719280"/>
                <a:gridCol w="1440000"/>
                <a:gridCol w="576000"/>
                <a:gridCol w="792360"/>
                <a:gridCol w="865080"/>
                <a:gridCol w="898560"/>
              </a:tblGrid>
              <a:tr h="404640">
                <a:tc gridSpan="10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- Retir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o Retirando/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eiro Retirando/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ento Inclus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o Inclusão/a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. Inclusão/a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 rowSpan="6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I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105XXXX - ELETROENCEFALOGR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01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99,8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106XXXX - DIAGNÓSTICO EM OFTALMOLOGIA INTERMEDIÁ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15,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15,8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109 - Médico nefrologi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115 - Médico angiologi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135 - Médico dermatologi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275 - Médico otorrinolaringologi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(G. Municip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0- Exame citopatológico cervico vaginal/microflo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92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        (G. Estadu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499,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496,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Os valores dos tetos fisicos/financeiros correspondem ao  valor que estava na GM(Palmas)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RIGAD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lefone 3218 17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-mail: ppiassistencialto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-36360" y="549360"/>
          <a:ext cx="9145440" cy="4687920"/>
        </p:xfrm>
        <a:graphic>
          <a:graphicData uri="http://schemas.openxmlformats.org/drawingml/2006/table">
            <a:tbl>
              <a:tblPr/>
              <a:tblGrid>
                <a:gridCol w="1079280"/>
                <a:gridCol w="1081080"/>
                <a:gridCol w="1008000"/>
                <a:gridCol w="648000"/>
                <a:gridCol w="720720"/>
                <a:gridCol w="1152360"/>
                <a:gridCol w="647640"/>
                <a:gridCol w="647640"/>
                <a:gridCol w="1440000"/>
                <a:gridCol w="720720"/>
              </a:tblGrid>
              <a:tr h="287280">
                <a:tc gridSpan="10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- AGUIARNÓPOLIS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- Retir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o Retirando/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 Retirando/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ento Inclus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o Inclusão/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usão/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iarnópol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270 - Médico ortopedista e traumatolog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      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1010072 - CONSULTA MEDICA EM ATENÇÃO ESPECIALIZADA - 225250 - Médico ginecologista e obste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ÓPOLIS  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Os valores dos tetos físicos/financeiros correspondem ao  valor que estava na GE (Araguaína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ítulo 1"/>
          <p:cNvSpPr/>
          <p:nvPr/>
        </p:nvSpPr>
        <p:spPr>
          <a:xfrm>
            <a:off x="685800" y="1752480"/>
            <a:ext cx="77724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4920" y="1454040"/>
          <a:ext cx="9072720" cy="3326040"/>
        </p:xfrm>
        <a:graphic>
          <a:graphicData uri="http://schemas.openxmlformats.org/drawingml/2006/table">
            <a:tbl>
              <a:tblPr/>
              <a:tblGrid>
                <a:gridCol w="1152360"/>
                <a:gridCol w="2232360"/>
                <a:gridCol w="936360"/>
                <a:gridCol w="935280"/>
                <a:gridCol w="1296720"/>
                <a:gridCol w="1440000"/>
                <a:gridCol w="1079640"/>
              </a:tblGrid>
              <a:tr h="42732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ITACAJÁ   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83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CAJÁ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3010019 - EXAME CITOPATOLOGICO CERVICO-VAGINAL/MICROFL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82,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CAJÁ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GUAÍNA   (Gestão Estadu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82,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valores dos tetos físicos/financeiros correspondem ao  valor que estava na Gestão Municipal (ITACAJÁ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ítulo 1"/>
          <p:cNvSpPr/>
          <p:nvPr/>
        </p:nvSpPr>
        <p:spPr>
          <a:xfrm>
            <a:off x="685800" y="1752480"/>
            <a:ext cx="77724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4920" y="0"/>
          <a:ext cx="9072720" cy="6093000"/>
        </p:xfrm>
        <a:graphic>
          <a:graphicData uri="http://schemas.openxmlformats.org/drawingml/2006/table">
            <a:tbl>
              <a:tblPr/>
              <a:tblGrid>
                <a:gridCol w="1368360"/>
                <a:gridCol w="1513080"/>
                <a:gridCol w="863640"/>
                <a:gridCol w="863280"/>
                <a:gridCol w="1873440"/>
                <a:gridCol w="1366920"/>
                <a:gridCol w="1224000"/>
              </a:tblGrid>
              <a:tr h="40464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72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LAGOA DO TO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0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000">
                <a:tc rowSpan="5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O TOCANT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1XXXX - BIOQUÍMICA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53,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O TOCANTINS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4XXXX - COPROLOGIA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O TOCANTINS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2XXXX - HEMATOLOGIA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2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O TOCANTINS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3XXXX - IMUNOLOGIA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13,2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O TOCANTINS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5XXXX - UROANÁLISE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,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O TOCANTINS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83,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valores dos tetos físicos/financeiros correspondem ao  valor que estava na Gestão Municipal( LAGOA DO TOCANTINS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ítulo 1"/>
          <p:cNvSpPr/>
          <p:nvPr/>
        </p:nvSpPr>
        <p:spPr>
          <a:xfrm>
            <a:off x="685800" y="1752480"/>
            <a:ext cx="77724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4920" y="0"/>
          <a:ext cx="9001080" cy="6280200"/>
        </p:xfrm>
        <a:graphic>
          <a:graphicData uri="http://schemas.openxmlformats.org/drawingml/2006/table">
            <a:tbl>
              <a:tblPr/>
              <a:tblGrid>
                <a:gridCol w="1081080"/>
                <a:gridCol w="2016000"/>
                <a:gridCol w="792360"/>
                <a:gridCol w="1008000"/>
                <a:gridCol w="1079640"/>
                <a:gridCol w="1728720"/>
                <a:gridCol w="1295280"/>
              </a:tblGrid>
              <a:tr h="40464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72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LAGOA DO TO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8440">
                <a:tc rowSpan="9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O TOCANT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1XXXX - BIOQUÍMICA AVANÇ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8,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 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1XXXX - BIOQUÍMICA INTERMEDIÁ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6,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             (Gestão Municip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1XXXX - BIOQUÍMICA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4,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             (Gestão Municip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2XXXX - HEMATOLOGIA AVANÇ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             (Gestão Municip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2XXXX - HEMATOLOGIA INTERMEDIÁ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             (Gestão Municip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2XXXX - HEMATOLOGIA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91,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             (Gestão Municip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3XXXX - CITOMETRIA DE FLUX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3XXXX - IMUNOLOGIA AVANÇ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,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3XXXX - IMUNOLOGIA DIFERENCI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10,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ítulo 1"/>
          <p:cNvSpPr/>
          <p:nvPr/>
        </p:nvSpPr>
        <p:spPr>
          <a:xfrm>
            <a:off x="685800" y="1752480"/>
            <a:ext cx="77724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4920" y="0"/>
          <a:ext cx="9072720" cy="5956200"/>
        </p:xfrm>
        <a:graphic>
          <a:graphicData uri="http://schemas.openxmlformats.org/drawingml/2006/table">
            <a:tbl>
              <a:tblPr/>
              <a:tblGrid>
                <a:gridCol w="1152360"/>
                <a:gridCol w="2232360"/>
                <a:gridCol w="863280"/>
                <a:gridCol w="1008360"/>
                <a:gridCol w="1081080"/>
                <a:gridCol w="1439640"/>
                <a:gridCol w="1295640"/>
              </a:tblGrid>
              <a:tr h="40464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72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LAGOA DO TO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 rowSpan="8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O TOCANT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3XXXX - IMUNOLOGIA INTERMEDIÁ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97,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3XXXX - IMUNOLOGIA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9,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3XXXX - PERFIL TORCH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61,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4XXXX - COPROLOGIA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,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5XXXX - UROANÁLISE INTERMEDIÁ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9,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5XXXX - UROANÁLISE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32,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60276 - DOSAGEM DE PARATORMO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,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6XXXX - HORMONAIS AVANÇ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9,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ítulo 1"/>
          <p:cNvSpPr/>
          <p:nvPr/>
        </p:nvSpPr>
        <p:spPr>
          <a:xfrm>
            <a:off x="685800" y="1752480"/>
            <a:ext cx="77724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4920" y="0"/>
          <a:ext cx="9072720" cy="5823000"/>
        </p:xfrm>
        <a:graphic>
          <a:graphicData uri="http://schemas.openxmlformats.org/drawingml/2006/table">
            <a:tbl>
              <a:tblPr/>
              <a:tblGrid>
                <a:gridCol w="1224000"/>
                <a:gridCol w="2233440"/>
                <a:gridCol w="863640"/>
                <a:gridCol w="1008000"/>
                <a:gridCol w="1152720"/>
                <a:gridCol w="1366920"/>
                <a:gridCol w="1224000"/>
              </a:tblGrid>
              <a:tr h="40464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72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LAGOA DO TO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8280">
                <a:tc rowSpan="7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O TOCANT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6XXXX - HORMONAIS INTERMEDIÁ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,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7XXXX - MONITORIZAÇÃO TERAPEU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7XXXX - TOXIC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8XXXX - MICROBIOLOGIA AVANÇ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8XXXX - MICROBIOLOGIA INTERMEDIÁ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8XXXX - MICROBIOLOGIA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,3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09XXXX - LIQU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ítulo 1"/>
          <p:cNvSpPr/>
          <p:nvPr/>
        </p:nvSpPr>
        <p:spPr>
          <a:xfrm>
            <a:off x="685800" y="1752480"/>
            <a:ext cx="77724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4920" y="0"/>
          <a:ext cx="9072720" cy="5375160"/>
        </p:xfrm>
        <a:graphic>
          <a:graphicData uri="http://schemas.openxmlformats.org/drawingml/2006/table">
            <a:tbl>
              <a:tblPr/>
              <a:tblGrid>
                <a:gridCol w="1368360"/>
                <a:gridCol w="1800360"/>
                <a:gridCol w="720720"/>
                <a:gridCol w="1150920"/>
                <a:gridCol w="1441440"/>
                <a:gridCol w="1366920"/>
                <a:gridCol w="1224000"/>
              </a:tblGrid>
              <a:tr h="40464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72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– LAGOA DO TO- Modalidade: Ambula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0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Encaminh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gado ( Código e Descriçã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ísic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o Financeiro / 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Deten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 Receptor do T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1000">
                <a:tc rowSpan="5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A DO TOCANT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12XXXX - IMUNOHEMATOLÓGICOS INTERMEDIÁ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212XXXX - IMUNOHEMATOLÓGICOS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,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203020000 - Exames anatomopatológ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088,3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203020065 - EXAME ANATOMOPATOLOGICO DE MAMA - BIOP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6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203020081 - EXAME ANATOMO-PATOLOGICO DO COLO UTERINO - BIOP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8,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ALMAS         (G.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PARECIDA DO RIO NEGRO          (Gestão Municip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FAVORÁ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338,5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 Os valores dos tetos físicos/financeiros correspondem ao  valor que estava na Gestão Municipal( Palmas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0:54Z</dcterms:created>
  <dc:creator>branti</dc:creator>
  <dc:description/>
  <dc:language>en-US</dc:language>
  <cp:lastModifiedBy>Deusa de canaa Miranda Parriao de Souza</cp:lastModifiedBy>
  <dcterms:modified xsi:type="dcterms:W3CDTF">2017-12-05T16:58:28Z</dcterms:modified>
  <cp:revision>152</cp:revision>
  <dc:subject/>
  <dc:title>GOVERNO DO ESTADO DO TOCANTINS SECRETARIA DA SAÚDE SUPERINTENDENCIA DE ATENÇÃO E PROMOÇÃO À SAÚDE DIRETORIA DE CONTROLE, REGULAÇÃO, AVALIAÇÃO E AUDITORIA COORDENAÇÃO DE CONTROLE E SISTEMAS DE INFORMAÇÃO</dc:title>
</cp:coreProperties>
</file>